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5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2"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move the slide</a:t>
            </a:r>
            <a:endParaRPr b="0" lang="en-US" sz="4000" spc="-1" strike="noStrike">
              <a:solidFill>
                <a:srgbClr val="ffffff"/>
              </a:solidFill>
              <a:latin typeface="Corbel"/>
            </a:endParaRPr>
          </a:p>
        </p:txBody>
      </p:sp>
      <p:sp>
        <p:nvSpPr>
          <p:cNvPr id="5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5"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6"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8E8AD-07DE-45FE-B1B9-BEE304EB073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Our program evaluation will consist of both formative and summative evaluation processes. This is felt to be the most comprehensive approach possible and the one that will generate the best product. Design reviews will be implemented at each developmental stage to ensure key instructional requirements are being met before moving on. There will also be an expert review session including museum directors, one seasoned volunteer, and the identified trainers in order to ensure that all can agree on the form and shape of the curriculum and feel that it is useful for generating their desired learning outcomes. This will facilitate both the identification and revision of any weaknesses in the instructional material allowing necessary revisions to be made resulting in an effective training program that is focused perfectly on the desired learning outcomes.</a:t>
            </a: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F55A6-1BC8-4078-BC6D-CEB8E0092919}"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A summative evaluation of the training program will measure the effects of training in the actual environment where it will be employed. This will serve to verify whether or not the desired learning goals have been achieved and how they are impacting the business of the museum. The main methods of measuring indicators of success will include feedback from museum customers via customer satisfaction surveys and monitoring for a reduction or increase in customer complaints. From the in house side of things feedback will be attained from museum employees and volunteers via periodic post-training checklist surveys by museum directors or experienced staff coupled with on-the-job observation. Records of post-training patron donations will also be monitored along with the Excel database to check for a reduction or increase in user error. We suggest that a period of six months be allowed to pass before conducting this survey to allow for proper development of what questions should be asked and what specific areas of performance monitored.</a:t>
            </a: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74239-951B-4903-9AD8-546601F59459}" type="slidenum">
              <a:rPr b="0" lang="ja-JP" sz="1200" spc="-1" strike="noStrike">
                <a:solidFill>
                  <a:srgbClr val="ffffff"/>
                </a:solidFill>
                <a:latin typeface="Calibri"/>
                <a:ea typeface="MS PGothic"/>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FFBDA-B4ED-49CE-B406-E322B4032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7"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1CE33-D27C-4009-B0CD-19D5DDB0D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51"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2"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13BAC7A1-66B2-4692-A887-503CC751F4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A72B580D-28F2-4F64-B8BD-5E3F2C6048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73BAEFF7-222E-4B26-AC1C-FC66C9F337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56"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7"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8"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6B7D5F6-B133-43B8-BD4D-C574C995D2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60"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6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62"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A735C1E-4DE8-4B90-88D8-A2072B72E9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64"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6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66"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8F49515-F7FC-41FD-9CCF-546575C518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68"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69"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FABE053D-DDDC-45FA-9269-9564894934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71"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72"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73"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74"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32265968-C0A6-48D5-8CCB-D9FDE01FAA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76"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77"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78"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79"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0"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1"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42FA4A7A-37E5-411D-9E28-B2B94D7951D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1DCC20B4-9142-4233-9BE0-0ABA3CCEDBB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2"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5116C-EE2C-430D-8351-6E9E48E86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91"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534CF6EF-6D97-4A7C-A553-913C455A03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93"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8DB2AF9F-5910-41BC-B6BD-95104FA3B0D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95"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6"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4A2A5764-59F1-4745-94AD-C04C7C22393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4E503392-94C7-4EE9-BBF4-52BDCD8A1F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8E0AB829-A238-4D1F-933F-F67E86C3C7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0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1"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2"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7EF8C92-96AE-44C0-9697-4A2BC6216E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04"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6"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4F2D9AB8-717C-4441-9F02-2E23E4FBCA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0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0"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42AEBE9F-8DD5-49B5-B5EB-29D1B54A1E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12"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3"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F3178D31-C73A-4AA9-9F19-DA0DF0A99ED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15"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6"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7"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8"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8DEC1EE5-5A69-4809-A782-BA40ABD208F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5"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6"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7"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B2459-CF83-4BED-AE73-5DF3C77E8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20"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1"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2"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3"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4"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5"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7FA2F225-6DFC-4CEF-B275-A5AFE61EFFE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C01CB37-0479-483F-852C-053544453A9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33"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6327136-DD7D-43EE-A797-EA20CE1AE2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35"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6516EE2-DFFC-492A-B965-8B7EEB1BEA3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37"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38"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2EE4F34-E422-455F-8EE2-F2D4D1D33C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0C55DF-F050-4D15-A9A6-A846D0D26CA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9E0701-044A-4E40-8B59-F5793CA53EE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42"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43"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44"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F91423-7708-4723-AD3F-B0BFEA2AD0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46"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47"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48"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0E515E-5439-4658-9017-61E1AC90A4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5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5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52"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6FBA27-C341-4D8B-ABEC-95A1419DAC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26F1B98-6239-489B-8320-20036B9F0E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54"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55"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AFB2FF-7C33-40D5-9040-F8BC3B056BD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57"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58"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59"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60"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CA48267-BD30-40AC-A85E-B93415FBD17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62"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63"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64"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65"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66"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67"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B769AD7-E2F4-400F-BBA3-BC72C04AE3B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46DF389-64DF-4790-99D7-5626BD38BDC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75"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DD48FFA-9EA7-491C-BD68-884367F2A4F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77"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8C1F1E0-688D-431F-AA04-D41AE9F8337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79"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80"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91807F6-FBE2-4269-B68E-5A8DE1A8576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5F78B26-B13E-4453-88F3-3A5EEAED51D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32D495-2482-4748-830F-A3F02C59B5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84"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85"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86"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1CCE7C-2C00-4229-A391-257DC63AEC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9"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5B8E987-FB92-48E3-931D-9F7A4ED09C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88"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8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90"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631B4B-1A60-4800-A56F-1F5F4F5C64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92"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93"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94"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8F7632-D435-48EB-9047-82952DA2668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96"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97"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3A1BA12-ABAA-497A-98D3-431A973C662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499"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0"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1"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2"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5D7E23A-3C25-4F6D-9978-4D4EF326C4F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504"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5"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6"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7"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8"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09"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7B3E388-63B8-457D-A1C7-C2658BBA1CD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51"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1365217-77DF-49E1-9C8F-F2D60FDC9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53"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4"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B06B606-B4F4-4F04-8D02-1F8FBEBE2F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E3803DC-7A7F-41B3-8314-197D51725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C28378D-F843-4405-B87D-9C88EB2B1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5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9"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0"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BD89F2F-5192-4E91-9180-490D046F0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6"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C7842-73DD-451D-813E-E4DDA4FF7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62"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3"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4"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3C96682-562C-489E-BDD7-808DE78CF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66"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7"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8"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575926E-9527-4383-ADF5-911C8DF4A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70"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1"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B4EFC57-B52B-41BF-83DA-34D43DC5C6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73"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4"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5"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C38FC4D-86A6-45A3-ACF3-C470EBC4B9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78"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9"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0"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94EB1B4-7DA9-4208-9D72-F9455BD5ED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46D776F-379F-49AC-B083-98C37724B5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91"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4E872C1-8AB6-4E02-8E63-273EBA15CE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93"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182D62C-516C-44DE-AB9E-7EB80B42AC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95"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6"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72EBDF8-E84B-4D2A-B94C-0DD79C5998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237E51D-8434-4F58-9537-AFDFB7A961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8"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031E3-F87C-4692-8F3D-74A980B82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90B9202-15D2-4BA0-9261-2CC022981D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0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1"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2"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98533C4-2EAA-4BAD-BC50-7CE56D9E7C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04"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6"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265780E-BF0B-4D4F-9E26-AA2A6C3153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0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0"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87D471D-B283-461E-9D18-648D4C9A47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12"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BC02778-7B80-4D10-8777-F4BA178916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15"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7"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8"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77BD97B-F527-4408-9E9E-EF66A42992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20"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2"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3"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59FBE19-4BC8-407E-ADB9-E227F8A89A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2019C3E-2B22-4FCE-9E5A-5860FCCCE4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35"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7BC553A-F8A9-4898-9652-149A4D4C1F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37"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2C8119C-767E-4BA2-9001-587336636E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0"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2E28D-868A-4C5A-8455-0985F7F84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39"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3B0AA7F-C34C-48D9-A1E5-8FD6D00AB3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D6E13EB-E3C2-428B-9049-3446B8168B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AD43583-8A9E-46CC-BCC1-D84B223ECB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44"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5F14BD6-17B7-419A-83A9-FD731B6532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48"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BC89DB9-B17B-4495-B13A-1B56408175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52"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1C92353-BEA6-433B-A299-4CD3629A38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56"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0456676-1C43-4E47-9E82-B0B2AFD83A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59"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2D93F15-0C40-4B8D-9D2D-527A18906F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64"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F4F0280-28B6-46F5-BF0F-961E5D528F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2B87D8B-0757-4426-A7D1-645ED33AD9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9A55F-B756-4D56-B296-A3B06AF37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77"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945C79E-30A9-4B4B-8F1E-610C9971EE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79"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F8DAAA6-B319-4EB1-8832-35F768F847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81"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2"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7B22B2D-6665-48BF-ABE5-030E000691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6FDA752-2471-4A7E-A4D3-A3283F2C40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AD65927-3420-409C-83B0-887BE797F3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86"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7"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8"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AD7EF7D-5286-46E9-9C38-1D1C809868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90"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2"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F2647B7-7A7F-4960-B910-DE11353397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94"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6"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86D9279-A4F3-4B17-87F9-7EF56E62AA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98"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4E66044-8485-4C35-802D-CF0A37C8D7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01"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3"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4"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F5A392D-4A78-460C-B871-93927942E2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216DB-7707-4AA5-A93A-55B1B0254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06"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8"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9"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AB35F66-CDA1-4E9F-83B0-09B02EE3C7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ED609E1-0CFA-43F0-B008-8231848D19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19"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D181AC1-CC1F-41AD-9165-0B7B3149ED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21"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10D7C4D-C669-4636-87D4-B71B4A12E4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23"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4"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077C8CA-F974-4B88-9404-A017898986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D299E0C-F6A5-4D4A-9286-16CDFF776E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7927BCA-FCBC-4887-9E3A-ADA35B2329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2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9"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2243B61-295F-4404-8D6E-C245524CA7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32"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3"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4"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D9549D0-DB7B-40C6-8C23-A906CE7B24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36"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7"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8"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5F54182-007F-4D8B-B75D-EEFF8D0F28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5"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7"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20DF1-7AD9-455E-8AA5-F516CC240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40"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1"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8B76A11-6BFC-4406-8895-4824660F93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43"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5"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6"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533C54E-18D1-40BE-823F-E06F70FB47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48"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9"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3"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0944C17-3E52-482D-9541-3CA1D92DE8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7E6669B-322B-4622-96A7-E89C936C4C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61"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C24230F-64F4-4E88-8D77-17636DBC0E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63"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AF5AD9E-6AA4-4F44-8273-4342C6209D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65"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6"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BF40BB0-079F-4275-A925-C542391984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41B382C-7648-428F-985F-0825A55CBA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F60D0A1-009E-4BBB-97FE-4436264B75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7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1"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2"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503F41E-D295-4B8F-AAE0-08A670CE07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19"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EA578-8D62-40E8-A57D-EB14124C8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74"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5"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6"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006C1A0-F7F8-4984-B0C0-21BD32ABEB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78"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0"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4BE692D-E105-4B75-B508-6DFF30A899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82"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E02F69B-15CB-48CB-A938-CB0B4B8370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85"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8"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0A73AB2-EC4E-4EA0-AD28-69159DD4C5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90"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1"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2"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C643D56-C9E8-49B5-A556-0673608F01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BEAC8FF5-E99F-42F9-B630-9292EC9122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03"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26C69FEC-1237-4AD1-BDB7-2E9E02C9DE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05"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8E14F774-8BD5-4E31-98F9-21F1843497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07"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8"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A939448E-536E-4547-90DC-0410BF5FB3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F9F43132-A713-4CEA-96E1-87BFBFF95A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23"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D41D4-246D-4A3A-B25F-9CFE7AD1B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352440" y="228240"/>
            <a:ext cx="7680240" cy="49456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E4F8466F-E90B-4FAF-BC75-D859505BF0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12"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13" name="PlaceHolder 3"/>
          <p:cNvSpPr>
            <a:spLocks noGrp="1"/>
          </p:cNvSpPr>
          <p:nvPr>
            <p:ph/>
          </p:nvPr>
        </p:nvSpPr>
        <p:spPr>
          <a:xfrm>
            <a:off x="428796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14"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A316474-C948-4895-850E-527763415D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16" name="PlaceHolder 2"/>
          <p:cNvSpPr>
            <a:spLocks noGrp="1"/>
          </p:cNvSpPr>
          <p:nvPr>
            <p:ph/>
          </p:nvPr>
        </p:nvSpPr>
        <p:spPr>
          <a:xfrm>
            <a:off x="352440" y="1463400"/>
            <a:ext cx="374760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17"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18" name="PlaceHolder 4"/>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4AF6DCDD-F62C-4392-A73C-BC5A96B3B1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20"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21"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22" name="PlaceHolder 4"/>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8161EF9-164C-41CF-A64D-F5BD543A56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24" name="PlaceHolder 2"/>
          <p:cNvSpPr>
            <a:spLocks noGrp="1"/>
          </p:cNvSpPr>
          <p:nvPr>
            <p:ph/>
          </p:nvPr>
        </p:nvSpPr>
        <p:spPr>
          <a:xfrm>
            <a:off x="352440" y="146340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25" name="PlaceHolder 3"/>
          <p:cNvSpPr>
            <a:spLocks noGrp="1"/>
          </p:cNvSpPr>
          <p:nvPr>
            <p:ph/>
          </p:nvPr>
        </p:nvSpPr>
        <p:spPr>
          <a:xfrm>
            <a:off x="352440" y="3732120"/>
            <a:ext cx="76802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D4949A10-4F79-442D-ABCF-C43FC7E3A3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27" name="PlaceHolder 2"/>
          <p:cNvSpPr>
            <a:spLocks noGrp="1"/>
          </p:cNvSpPr>
          <p:nvPr>
            <p:ph/>
          </p:nvPr>
        </p:nvSpPr>
        <p:spPr>
          <a:xfrm>
            <a:off x="35244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28" name="PlaceHolder 3"/>
          <p:cNvSpPr>
            <a:spLocks noGrp="1"/>
          </p:cNvSpPr>
          <p:nvPr>
            <p:ph/>
          </p:nvPr>
        </p:nvSpPr>
        <p:spPr>
          <a:xfrm>
            <a:off x="4287960" y="146340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29" name="PlaceHolder 4"/>
          <p:cNvSpPr>
            <a:spLocks noGrp="1"/>
          </p:cNvSpPr>
          <p:nvPr>
            <p:ph/>
          </p:nvPr>
        </p:nvSpPr>
        <p:spPr>
          <a:xfrm>
            <a:off x="35244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0" name="PlaceHolder 5"/>
          <p:cNvSpPr>
            <a:spLocks noGrp="1"/>
          </p:cNvSpPr>
          <p:nvPr>
            <p:ph/>
          </p:nvPr>
        </p:nvSpPr>
        <p:spPr>
          <a:xfrm>
            <a:off x="4287960" y="3732120"/>
            <a:ext cx="374760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1CAB6AE2-B382-4B24-92A8-10E4D57E00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32" name="PlaceHolder 2"/>
          <p:cNvSpPr>
            <a:spLocks noGrp="1"/>
          </p:cNvSpPr>
          <p:nvPr>
            <p:ph/>
          </p:nvPr>
        </p:nvSpPr>
        <p:spPr>
          <a:xfrm>
            <a:off x="35244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3" name="PlaceHolder 3"/>
          <p:cNvSpPr>
            <a:spLocks noGrp="1"/>
          </p:cNvSpPr>
          <p:nvPr>
            <p:ph/>
          </p:nvPr>
        </p:nvSpPr>
        <p:spPr>
          <a:xfrm>
            <a:off x="294948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4" name="PlaceHolder 4"/>
          <p:cNvSpPr>
            <a:spLocks noGrp="1"/>
          </p:cNvSpPr>
          <p:nvPr>
            <p:ph/>
          </p:nvPr>
        </p:nvSpPr>
        <p:spPr>
          <a:xfrm>
            <a:off x="5546160" y="146340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5" name="PlaceHolder 5"/>
          <p:cNvSpPr>
            <a:spLocks noGrp="1"/>
          </p:cNvSpPr>
          <p:nvPr>
            <p:ph/>
          </p:nvPr>
        </p:nvSpPr>
        <p:spPr>
          <a:xfrm>
            <a:off x="35244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6" name="PlaceHolder 6"/>
          <p:cNvSpPr>
            <a:spLocks noGrp="1"/>
          </p:cNvSpPr>
          <p:nvPr>
            <p:ph/>
          </p:nvPr>
        </p:nvSpPr>
        <p:spPr>
          <a:xfrm>
            <a:off x="294948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7" name="PlaceHolder 7"/>
          <p:cNvSpPr>
            <a:spLocks noGrp="1"/>
          </p:cNvSpPr>
          <p:nvPr>
            <p:ph/>
          </p:nvPr>
        </p:nvSpPr>
        <p:spPr>
          <a:xfrm>
            <a:off x="5546160" y="3732120"/>
            <a:ext cx="2472840" cy="20714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82D2EB71-2EBA-4CD1-803A-5CA0D0AF4E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68295249-9659-49FE-8AF3-99DFFCECB9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47" name="PlaceHolder 2"/>
          <p:cNvSpPr>
            <a:spLocks noGrp="1"/>
          </p:cNvSpPr>
          <p:nvPr>
            <p:ph type="subTitle"/>
          </p:nvPr>
        </p:nvSpPr>
        <p:spPr>
          <a:xfrm>
            <a:off x="352440" y="1463400"/>
            <a:ext cx="7680240" cy="43434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20E3BFEF-109E-44F7-8379-774A5C48BB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rbel"/>
            </a:endParaRPr>
          </a:p>
        </p:txBody>
      </p:sp>
      <p:sp>
        <p:nvSpPr>
          <p:cNvPr id="349" name="PlaceHolder 2"/>
          <p:cNvSpPr>
            <a:spLocks noGrp="1"/>
          </p:cNvSpPr>
          <p:nvPr>
            <p:ph/>
          </p:nvPr>
        </p:nvSpPr>
        <p:spPr>
          <a:xfrm>
            <a:off x="352440" y="1463400"/>
            <a:ext cx="7680240" cy="43434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8FD1AC91-DA4E-4DFB-A612-6E2CE468D07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1"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98000"/>
          </a:bodyPr>
          <a:p>
            <a:pPr marL="335880" indent="-3358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67760" indent="-1677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37320" indent="-16164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507240" indent="-16632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75000" indent="-1695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 name="PlaceHolder 3"/>
          <p:cNvSpPr>
            <a:spLocks noGrp="1"/>
          </p:cNvSpPr>
          <p:nvPr>
            <p:ph type="dt" idx="1"/>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PlaceHolder 5"/>
          <p:cNvSpPr>
            <a:spLocks noGrp="1"/>
          </p:cNvSpPr>
          <p:nvPr>
            <p:ph type="sldNum" idx="3"/>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378C6-68CE-46BC-B902-F77F41EA667B}"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2"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83" name="Rectangle 7"/>
          <p:cNvSpPr/>
          <p:nvPr/>
        </p:nvSpPr>
        <p:spPr>
          <a:xfrm>
            <a:off x="0" y="5734080"/>
            <a:ext cx="9144000" cy="1123920"/>
          </a:xfrm>
          <a:prstGeom prst="rect">
            <a:avLst/>
          </a:prstGeom>
          <a:solidFill>
            <a:srgbClr val="83899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84" name="Straight Connector 8"/>
          <p:cNvSpPr/>
          <p:nvPr/>
        </p:nvSpPr>
        <p:spPr>
          <a:xfrm>
            <a:off x="0" y="5695920"/>
            <a:ext cx="91440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rbel"/>
            </a:endParaRPr>
          </a:p>
        </p:txBody>
      </p:sp>
      <p:sp>
        <p:nvSpPr>
          <p:cNvPr id="38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386"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98000"/>
          </a:bodyPr>
          <a:p>
            <a:pPr marL="335880" indent="-3358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67760" indent="-1677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37320" indent="-16164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507240" indent="-16632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75000" indent="-1695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387" name="PlaceHolder 3"/>
          <p:cNvSpPr>
            <a:spLocks noGrp="1"/>
          </p:cNvSpPr>
          <p:nvPr>
            <p:ph type="dt" idx="28"/>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88" name="PlaceHolder 4"/>
          <p:cNvSpPr>
            <a:spLocks noGrp="1"/>
          </p:cNvSpPr>
          <p:nvPr>
            <p:ph type="sldNum" idx="29"/>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336E7-B304-425A-9E34-9FAA327949B7}"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389" name="PlaceHolder 5"/>
          <p:cNvSpPr>
            <a:spLocks noGrp="1"/>
          </p:cNvSpPr>
          <p:nvPr>
            <p:ph type="ftr" idx="30"/>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6"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428"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98000"/>
          </a:bodyPr>
          <a:p>
            <a:pPr marL="335880" indent="-3358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67760" indent="-1677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37320" indent="-16164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507240" indent="-16632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75000" indent="-1695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29" name="PlaceHolder 3"/>
          <p:cNvSpPr>
            <a:spLocks noGrp="1"/>
          </p:cNvSpPr>
          <p:nvPr>
            <p:ph type="dt" idx="31"/>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30" name="PlaceHolder 4"/>
          <p:cNvSpPr>
            <a:spLocks noGrp="1"/>
          </p:cNvSpPr>
          <p:nvPr>
            <p:ph type="ftr" idx="32"/>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31" name="PlaceHolder 5"/>
          <p:cNvSpPr>
            <a:spLocks noGrp="1"/>
          </p:cNvSpPr>
          <p:nvPr>
            <p:ph type="sldNum" idx="33"/>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B5B13-64B5-4129-B326-B12C0153F2F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8"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6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470"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98000"/>
          </a:bodyPr>
          <a:p>
            <a:pPr marL="335880" indent="-3358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67760" indent="-1677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37320" indent="-16164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507240" indent="-16632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75000" indent="-1695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1" name="PlaceHolder 3"/>
          <p:cNvSpPr>
            <a:spLocks noGrp="1"/>
          </p:cNvSpPr>
          <p:nvPr>
            <p:ph type="dt" idx="34"/>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72" name="PlaceHolder 4"/>
          <p:cNvSpPr>
            <a:spLocks noGrp="1"/>
          </p:cNvSpPr>
          <p:nvPr>
            <p:ph type="ftr" idx="35"/>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73" name="PlaceHolder 5"/>
          <p:cNvSpPr>
            <a:spLocks noGrp="1"/>
          </p:cNvSpPr>
          <p:nvPr>
            <p:ph type="sldNum" idx="36"/>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93BEC-5F05-4E2E-9D05-E9D404BCBEF8}"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0" y="4743360"/>
            <a:ext cx="9144000" cy="2114640"/>
          </a:xfrm>
          <a:prstGeom prst="rect">
            <a:avLst/>
          </a:prstGeom>
          <a:solidFill>
            <a:srgbClr val="83899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2" name="Straight Connector 7"/>
          <p:cNvSpPr/>
          <p:nvPr/>
        </p:nvSpPr>
        <p:spPr>
          <a:xfrm>
            <a:off x="0" y="4714920"/>
            <a:ext cx="91440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rbel"/>
            </a:endParaRPr>
          </a:p>
        </p:txBody>
      </p:sp>
      <p:sp>
        <p:nvSpPr>
          <p:cNvPr id="4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44"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98000"/>
          </a:bodyPr>
          <a:p>
            <a:pPr marL="335880" indent="-3358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67760" indent="-1677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37320" indent="-16164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507240" indent="-16632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75000" indent="-1695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5" name="PlaceHolder 3"/>
          <p:cNvSpPr>
            <a:spLocks noGrp="1"/>
          </p:cNvSpPr>
          <p:nvPr>
            <p:ph type="dt" idx="4"/>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6" name="PlaceHolder 4"/>
          <p:cNvSpPr>
            <a:spLocks noGrp="1"/>
          </p:cNvSpPr>
          <p:nvPr>
            <p:ph type="sldNum" idx="5"/>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11879-6800-4F3E-90B5-9151379713D9}"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ftr" idx="6"/>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86"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98000"/>
          </a:bodyPr>
          <a:p>
            <a:pPr marL="335880" indent="-3358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67760" indent="-1677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37320" indent="-16164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507240" indent="-16632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75000" indent="-1695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87" name="PlaceHolder 3"/>
          <p:cNvSpPr>
            <a:spLocks noGrp="1"/>
          </p:cNvSpPr>
          <p:nvPr>
            <p:ph type="dt" idx="7"/>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88" name="PlaceHolder 4"/>
          <p:cNvSpPr>
            <a:spLocks noGrp="1"/>
          </p:cNvSpPr>
          <p:nvPr>
            <p:ph type="sldNum" idx="8"/>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EDCA5-0858-417E-9A6E-4D753C63D3FA}"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89" name="PlaceHolder 5"/>
          <p:cNvSpPr>
            <a:spLocks noGrp="1"/>
          </p:cNvSpPr>
          <p:nvPr>
            <p:ph type="ftr" idx="9"/>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Rectangle 7"/>
          <p:cNvSpPr/>
          <p:nvPr/>
        </p:nvSpPr>
        <p:spPr>
          <a:xfrm>
            <a:off x="0" y="0"/>
            <a:ext cx="9144000" cy="1828800"/>
          </a:xfrm>
          <a:prstGeom prst="rect">
            <a:avLst/>
          </a:prstGeom>
          <a:solidFill>
            <a:srgbClr val="83899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Straight Connector 8"/>
          <p:cNvSpPr/>
          <p:nvPr/>
        </p:nvSpPr>
        <p:spPr>
          <a:xfrm>
            <a:off x="-4680" y="1828800"/>
            <a:ext cx="91440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rbel"/>
            </a:endParaRPr>
          </a:p>
        </p:txBody>
      </p:sp>
      <p:sp>
        <p:nvSpPr>
          <p:cNvPr id="129"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130"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98000"/>
          </a:bodyPr>
          <a:p>
            <a:pPr marL="335880" indent="-3358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67760" indent="-1677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37320" indent="-16164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507240" indent="-16632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75000" indent="-1695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1" name="PlaceHolder 3"/>
          <p:cNvSpPr>
            <a:spLocks noGrp="1"/>
          </p:cNvSpPr>
          <p:nvPr>
            <p:ph type="dt" idx="10"/>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32" name="PlaceHolder 4"/>
          <p:cNvSpPr>
            <a:spLocks noGrp="1"/>
          </p:cNvSpPr>
          <p:nvPr>
            <p:ph type="sldNum" idx="11"/>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04CC-DE11-442F-88F2-7B58BFAEEC15}"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33" name="PlaceHolder 5"/>
          <p:cNvSpPr>
            <a:spLocks noGrp="1"/>
          </p:cNvSpPr>
          <p:nvPr>
            <p:ph type="ftr" idx="12"/>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172"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98000"/>
          </a:bodyPr>
          <a:p>
            <a:pPr marL="335880" indent="-3358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67760" indent="-1677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37320" indent="-16164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507240" indent="-16632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75000" indent="-1695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73" name="PlaceHolder 3"/>
          <p:cNvSpPr>
            <a:spLocks noGrp="1"/>
          </p:cNvSpPr>
          <p:nvPr>
            <p:ph type="dt" idx="13"/>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74" name="PlaceHolder 4"/>
          <p:cNvSpPr>
            <a:spLocks noGrp="1"/>
          </p:cNvSpPr>
          <p:nvPr>
            <p:ph type="sldNum" idx="14"/>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1F39C-438A-4DF3-A903-2E69823245CA}"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ftr" idx="15"/>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2"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214"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98000"/>
          </a:bodyPr>
          <a:p>
            <a:pPr marL="335880" indent="-3358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67760" indent="-1677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37320" indent="-16164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507240" indent="-16632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75000" indent="-1695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15" name="PlaceHolder 3"/>
          <p:cNvSpPr>
            <a:spLocks noGrp="1"/>
          </p:cNvSpPr>
          <p:nvPr>
            <p:ph type="dt" idx="16"/>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16" name="PlaceHolder 4"/>
          <p:cNvSpPr>
            <a:spLocks noGrp="1"/>
          </p:cNvSpPr>
          <p:nvPr>
            <p:ph type="sldNum" idx="17"/>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DF164-5C10-4A15-B440-3DAE0F967D69}"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217" name="PlaceHolder 5"/>
          <p:cNvSpPr>
            <a:spLocks noGrp="1"/>
          </p:cNvSpPr>
          <p:nvPr>
            <p:ph type="ftr" idx="18"/>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55"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256"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98000"/>
          </a:bodyPr>
          <a:p>
            <a:pPr marL="335880" indent="-3358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67760" indent="-1677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37320" indent="-16164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507240" indent="-16632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75000" indent="-1695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57" name="PlaceHolder 3"/>
          <p:cNvSpPr>
            <a:spLocks noGrp="1"/>
          </p:cNvSpPr>
          <p:nvPr>
            <p:ph type="dt" idx="19"/>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58" name="PlaceHolder 4"/>
          <p:cNvSpPr>
            <a:spLocks noGrp="1"/>
          </p:cNvSpPr>
          <p:nvPr>
            <p:ph type="sldNum" idx="20"/>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93EA5-9195-4A78-94E0-63064515F89D}"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259" name="PlaceHolder 5"/>
          <p:cNvSpPr>
            <a:spLocks noGrp="1"/>
          </p:cNvSpPr>
          <p:nvPr>
            <p:ph type="ftr" idx="21"/>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6"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97"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298"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98000"/>
          </a:bodyPr>
          <a:p>
            <a:pPr marL="335880" indent="-3358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67760" indent="-1677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37320" indent="-16164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507240" indent="-16632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75000" indent="-1695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99" name="PlaceHolder 3"/>
          <p:cNvSpPr>
            <a:spLocks noGrp="1"/>
          </p:cNvSpPr>
          <p:nvPr>
            <p:ph type="dt" idx="22"/>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00" name="PlaceHolder 4"/>
          <p:cNvSpPr>
            <a:spLocks noGrp="1"/>
          </p:cNvSpPr>
          <p:nvPr>
            <p:ph type="sldNum" idx="23"/>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66434-8418-49F2-AABA-092C96A11B6A}"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301" name="PlaceHolder 5"/>
          <p:cNvSpPr>
            <a:spLocks noGrp="1"/>
          </p:cNvSpPr>
          <p:nvPr>
            <p:ph type="ftr" idx="24"/>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Rectangle 6"/>
          <p:cNvSpPr/>
          <p:nvPr/>
        </p:nvSpPr>
        <p:spPr>
          <a:xfrm>
            <a:off x="0" y="0"/>
            <a:ext cx="9144000" cy="6858000"/>
          </a:xfrm>
          <a:prstGeom prst="rect">
            <a:avLst/>
          </a:prstGeom>
          <a:solidFill>
            <a:srgbClr val="e3e6ec">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9" name="Rectangle 7"/>
          <p:cNvSpPr/>
          <p:nvPr/>
        </p:nvSpPr>
        <p:spPr>
          <a:xfrm>
            <a:off x="0" y="5734080"/>
            <a:ext cx="9144000" cy="1123920"/>
          </a:xfrm>
          <a:prstGeom prst="rect">
            <a:avLst/>
          </a:prstGeom>
          <a:solidFill>
            <a:srgbClr val="83899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40" name="Straight Connector 8"/>
          <p:cNvSpPr/>
          <p:nvPr/>
        </p:nvSpPr>
        <p:spPr>
          <a:xfrm>
            <a:off x="0" y="5695920"/>
            <a:ext cx="9144000" cy="1440"/>
          </a:xfrm>
          <a:prstGeom prst="line">
            <a:avLst/>
          </a:prstGeom>
          <a:ln w="763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rbel"/>
            </a:endParaRPr>
          </a:p>
        </p:txBody>
      </p:sp>
      <p:sp>
        <p:nvSpPr>
          <p:cNvPr id="341" name="PlaceHolder 1"/>
          <p:cNvSpPr>
            <a:spLocks noGrp="1"/>
          </p:cNvSpPr>
          <p:nvPr>
            <p:ph type="title"/>
          </p:nvPr>
        </p:nvSpPr>
        <p:spPr>
          <a:xfrm>
            <a:off x="352440" y="228240"/>
            <a:ext cx="7680240" cy="1066680"/>
          </a:xfrm>
          <a:prstGeom prst="rect">
            <a:avLst/>
          </a:prstGeom>
          <a:noFill/>
          <a:ln w="0">
            <a:noFill/>
          </a:ln>
        </p:spPr>
        <p:txBody>
          <a:bodyPr lIns="90000" rIns="90000" tIns="46800" bIns="46800" anchor="b">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lick to edit the title text format</a:t>
            </a:r>
            <a:endParaRPr b="0" lang="en-US" sz="4000" spc="-1" strike="noStrike">
              <a:solidFill>
                <a:srgbClr val="ffffff"/>
              </a:solidFill>
              <a:latin typeface="Corbel"/>
            </a:endParaRPr>
          </a:p>
        </p:txBody>
      </p:sp>
      <p:sp>
        <p:nvSpPr>
          <p:cNvPr id="342" name="PlaceHolder 2"/>
          <p:cNvSpPr>
            <a:spLocks noGrp="1"/>
          </p:cNvSpPr>
          <p:nvPr>
            <p:ph type="body"/>
          </p:nvPr>
        </p:nvSpPr>
        <p:spPr>
          <a:xfrm>
            <a:off x="352440" y="1463400"/>
            <a:ext cx="7680240" cy="4343400"/>
          </a:xfrm>
          <a:prstGeom prst="rect">
            <a:avLst/>
          </a:prstGeom>
          <a:noFill/>
          <a:ln w="0">
            <a:noFill/>
          </a:ln>
        </p:spPr>
        <p:txBody>
          <a:bodyPr lIns="90000" rIns="90000" tIns="46800" bIns="46800" anchor="t">
            <a:normAutofit fontScale="98000"/>
          </a:bodyPr>
          <a:p>
            <a:pPr marL="335880" indent="-335880">
              <a:spcBef>
                <a:spcPts val="1199"/>
              </a:spcBef>
              <a:buClr>
                <a:srgbClr val="8389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167760" indent="-1677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337320" indent="-16164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507240" indent="-16632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675000" indent="-169560">
              <a:spcBef>
                <a:spcPts val="1199"/>
              </a:spcBef>
              <a:buClr>
                <a:srgbClr val="5461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675000" indent="-16956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343" name="PlaceHolder 3"/>
          <p:cNvSpPr>
            <a:spLocks noGrp="1"/>
          </p:cNvSpPr>
          <p:nvPr>
            <p:ph type="dt" idx="25"/>
          </p:nvPr>
        </p:nvSpPr>
        <p:spPr>
          <a:xfrm>
            <a:off x="352080" y="6543720"/>
            <a:ext cx="1467000" cy="24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44" name="PlaceHolder 4"/>
          <p:cNvSpPr>
            <a:spLocks noGrp="1"/>
          </p:cNvSpPr>
          <p:nvPr>
            <p:ph type="sldNum" idx="26"/>
          </p:nvPr>
        </p:nvSpPr>
        <p:spPr>
          <a:xfrm>
            <a:off x="7886880" y="6543720"/>
            <a:ext cx="876240" cy="247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58067-8FA7-4324-9814-003AC7B042F9}"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345" name="PlaceHolder 5"/>
          <p:cNvSpPr>
            <a:spLocks noGrp="1"/>
          </p:cNvSpPr>
          <p:nvPr>
            <p:ph type="ftr" idx="27"/>
          </p:nvPr>
        </p:nvSpPr>
        <p:spPr>
          <a:xfrm>
            <a:off x="1809360" y="6543720"/>
            <a:ext cx="408636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TextBox 1"/>
          <p:cNvSpPr/>
          <p:nvPr/>
        </p:nvSpPr>
        <p:spPr>
          <a:xfrm>
            <a:off x="-262440" y="111240"/>
            <a:ext cx="473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rbel"/>
                <a:ea typeface="MS PGothic"/>
              </a:rPr>
              <a:t>Program Evaluation</a:t>
            </a:r>
            <a:endParaRPr b="0" lang="en-US" sz="3600" spc="-1" strike="noStrike">
              <a:solidFill>
                <a:srgbClr val="ffffff"/>
              </a:solidFill>
              <a:latin typeface="Corbel"/>
            </a:endParaRPr>
          </a:p>
        </p:txBody>
      </p:sp>
      <p:pic>
        <p:nvPicPr>
          <p:cNvPr id="518" name="Picture 2" descr="C:\Users\Owner\AppData\Local\Microsoft\Windows\Temporary Internet Files\Content.IE5\BK0RA2J1\MC900432675[1].png">
            <a:hlinkClick r:id="rId1" action="ppaction://hlinksldjump"/>
          </p:cNvPr>
          <p:cNvPicPr/>
          <p:nvPr/>
        </p:nvPicPr>
        <p:blipFill>
          <a:blip r:embed="rId2"/>
          <a:stretch/>
        </p:blipFill>
        <p:spPr>
          <a:xfrm>
            <a:off x="8377200" y="6149880"/>
            <a:ext cx="762120" cy="762120"/>
          </a:xfrm>
          <a:prstGeom prst="rect">
            <a:avLst/>
          </a:prstGeom>
          <a:ln w="0">
            <a:noFill/>
          </a:ln>
        </p:spPr>
      </p:pic>
      <p:sp>
        <p:nvSpPr>
          <p:cNvPr id="519" name="TextBox 3"/>
          <p:cNvSpPr/>
          <p:nvPr/>
        </p:nvSpPr>
        <p:spPr>
          <a:xfrm>
            <a:off x="380880" y="1028880"/>
            <a:ext cx="8377200" cy="5031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1b24cf"/>
                </a:solidFill>
                <a:latin typeface="Corbel"/>
                <a:ea typeface="MS PGothic"/>
              </a:rPr>
              <a:t>	</a:t>
            </a:r>
            <a:r>
              <a:rPr b="1" lang="en-US" sz="1800" spc="-1" strike="noStrike">
                <a:solidFill>
                  <a:srgbClr val="1b24cf"/>
                </a:solidFill>
                <a:latin typeface="Corbel"/>
                <a:ea typeface="MS PGothic"/>
              </a:rPr>
              <a:t>Our evaluation plan includes both formative and summative evaluation processes.</a:t>
            </a:r>
            <a:endParaRPr b="0" lang="en-US" sz="1800" spc="-1" strike="noStrike">
              <a:solidFill>
                <a:srgbClr val="ffffff"/>
              </a:solidFill>
              <a:latin typeface="Corbe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24cf"/>
                </a:solidFill>
                <a:latin typeface="Corbel"/>
                <a:ea typeface="MS PGothic"/>
              </a:rPr>
              <a:t>Formative Evaluation</a:t>
            </a:r>
            <a:endParaRPr b="0" lang="en-US" sz="1800" spc="-1" strike="noStrike">
              <a:solidFill>
                <a:srgbClr val="ffffff"/>
              </a:solidFill>
              <a:latin typeface="Corbel"/>
            </a:endParaRPr>
          </a:p>
          <a:p>
            <a:pPr lvl="1" marL="800280" indent="-343080">
              <a:lnSpc>
                <a:spcPct val="100000"/>
              </a:lnSpc>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Corbel"/>
                <a:ea typeface="MS PGothic"/>
              </a:rPr>
              <a:t>Our formative evaluation approach will include design reviews at each developmental stage to ensure key instructional requirements are being met. </a:t>
            </a:r>
            <a:endParaRPr b="0" lang="en-US" sz="1800" spc="-1" strike="noStrike">
              <a:solidFill>
                <a:srgbClr val="ffffff"/>
              </a:solidFill>
              <a:latin typeface="Corbel"/>
            </a:endParaRPr>
          </a:p>
          <a:p>
            <a:pPr lvl="1" marL="800280" indent="-343080">
              <a:lnSpc>
                <a:spcPct val="100000"/>
              </a:lnSpc>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Corbel"/>
                <a:ea typeface="MS PGothic"/>
              </a:rPr>
              <a:t>In addition, an expert review evaluation session will be conducted with museum directors, one seasoned volunteer, and the identified trainers who will review the instructional materials </a:t>
            </a:r>
            <a:endParaRPr b="0" lang="en-US" sz="1800" spc="-1" strike="noStrike">
              <a:solidFill>
                <a:srgbClr val="ffffff"/>
              </a:solidFill>
              <a:latin typeface="Corbel"/>
            </a:endParaRPr>
          </a:p>
          <a:p>
            <a:pPr lvl="1" marL="800280" indent="-343080">
              <a:lnSpc>
                <a:spcPct val="100000"/>
              </a:lnSpc>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Corbel"/>
                <a:ea typeface="MS PGothic"/>
              </a:rPr>
              <a:t>This will facilitate the identification of any weaknesses in the proposed instruction and allow revisions to be made which will ensure a well-organized, effective training program and maximize the achievement of expected learning outcomes.</a:t>
            </a:r>
            <a:br>
              <a:rPr sz="1800"/>
            </a:br>
            <a:r>
              <a:rPr b="1" lang="en-US" sz="1800" spc="-1" strike="noStrike">
                <a:solidFill>
                  <a:srgbClr val="1b24cf"/>
                </a:solidFill>
                <a:latin typeface="Corbel"/>
                <a:ea typeface="MS PGothic"/>
              </a:rPr>
              <a:t>Rationale</a:t>
            </a:r>
            <a:br>
              <a:rPr sz="1800"/>
            </a:br>
            <a:r>
              <a:rPr b="0" lang="en-US" sz="1800" spc="-1" strike="noStrike">
                <a:solidFill>
                  <a:srgbClr val="1b24cf"/>
                </a:solidFill>
                <a:latin typeface="Corbel"/>
                <a:ea typeface="MS PGothic"/>
              </a:rPr>
              <a:t>.</a:t>
            </a:r>
            <a:br>
              <a:rPr sz="1800"/>
            </a:br>
            <a:r>
              <a:rPr b="0" lang="en-US" sz="1800" spc="-1" strike="noStrike">
                <a:solidFill>
                  <a:srgbClr val="1b24cf"/>
                </a:solidFill>
                <a:latin typeface="Corbel"/>
                <a:ea typeface="MS PGothic"/>
              </a:rPr>
              <a:t>Formative evaluation is simply good designing. By taking steps along the way we will ensure that the end product is the best it can be before being employed in the instructional environment.</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Box 1"/>
          <p:cNvSpPr/>
          <p:nvPr/>
        </p:nvSpPr>
        <p:spPr>
          <a:xfrm>
            <a:off x="-65160" y="111240"/>
            <a:ext cx="3970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ticulate Extrabold"/>
                <a:ea typeface="MS PGothic"/>
              </a:rPr>
              <a:t>Program Evaluation</a:t>
            </a:r>
            <a:endParaRPr b="0" lang="en-US" sz="3200" spc="-1" strike="noStrike">
              <a:solidFill>
                <a:srgbClr val="ffffff"/>
              </a:solidFill>
              <a:latin typeface="Corbel"/>
            </a:endParaRPr>
          </a:p>
        </p:txBody>
      </p:sp>
      <p:pic>
        <p:nvPicPr>
          <p:cNvPr id="521" name="Picture 2" descr="C:\Users\Owner\AppData\Local\Microsoft\Windows\Temporary Internet Files\Content.IE5\BK0RA2J1\MC900432675[1].png">
            <a:hlinkClick r:id="rId1" action="ppaction://hlinksldjump"/>
          </p:cNvPr>
          <p:cNvPicPr/>
          <p:nvPr/>
        </p:nvPicPr>
        <p:blipFill>
          <a:blip r:embed="rId2"/>
          <a:stretch/>
        </p:blipFill>
        <p:spPr>
          <a:xfrm>
            <a:off x="8377200" y="6149880"/>
            <a:ext cx="762120" cy="762120"/>
          </a:xfrm>
          <a:prstGeom prst="rect">
            <a:avLst/>
          </a:prstGeom>
          <a:ln w="0">
            <a:noFill/>
          </a:ln>
        </p:spPr>
      </p:pic>
      <p:sp>
        <p:nvSpPr>
          <p:cNvPr id="522" name="TextBox 3"/>
          <p:cNvSpPr/>
          <p:nvPr/>
        </p:nvSpPr>
        <p:spPr>
          <a:xfrm>
            <a:off x="380880" y="1044720"/>
            <a:ext cx="837720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24cf"/>
                </a:solidFill>
                <a:latin typeface="Corbel"/>
                <a:ea typeface="MS PGothic"/>
              </a:rPr>
              <a:t>Summative Evaluation</a:t>
            </a:r>
            <a:endParaRPr b="0" lang="en-US" sz="1800" spc="-1" strike="noStrike">
              <a:solidFill>
                <a:srgbClr val="ffffff"/>
              </a:solidFill>
              <a:latin typeface="Corbel"/>
            </a:endParaRPr>
          </a:p>
          <a:p>
            <a:pPr marL="343080" indent="-343080">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Corbel"/>
                <a:ea typeface="MS PGothic"/>
              </a:rPr>
              <a:t>Our summative evaluation approach proposes that indicators of success be measured through feedback received from museum customers, employees, and trainees. </a:t>
            </a:r>
            <a:endParaRPr b="0" lang="en-US" sz="1800" spc="-1" strike="noStrike">
              <a:solidFill>
                <a:srgbClr val="ffffff"/>
              </a:solidFill>
              <a:latin typeface="Corbel"/>
            </a:endParaRPr>
          </a:p>
          <a:p>
            <a:pPr marL="343080" indent="-343080">
              <a:buClr>
                <a:srgbClr val="1b24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4cf"/>
                </a:solidFill>
                <a:latin typeface="Corbel"/>
                <a:ea typeface="MS PGothic"/>
              </a:rPr>
              <a:t>This information will be gained via customer satisfaction surveys with an established standard target of 90% satisfaction, monitoring of customer complaints (or a reduction of them), and the periodic use of a post training checklist to be used by museum directors or experienced staff in observing volunteers at work. We also propose records of patron funds be monitored for post-training increase or reduction and that the Excel database also be monitored for an increase or reduction of user error.</a:t>
            </a:r>
            <a:endParaRPr b="0" lang="en-US" sz="1800" spc="-1" strike="noStrike">
              <a:solidFill>
                <a:srgbClr val="ffffff"/>
              </a:solidFill>
              <a:latin typeface="Corbe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en-US" sz="1800" spc="-1" strike="noStrike">
                <a:solidFill>
                  <a:srgbClr val="1b24cf"/>
                </a:solidFill>
                <a:latin typeface="Corbel"/>
                <a:ea typeface="MS PGothic"/>
              </a:rPr>
              <a:t>Rationale</a:t>
            </a:r>
            <a:br>
              <a:rPr sz="1800"/>
            </a:br>
            <a:r>
              <a:rPr b="0" lang="en-US" sz="1800" spc="-1" strike="noStrike">
                <a:solidFill>
                  <a:srgbClr val="1b24cf"/>
                </a:solidFill>
                <a:latin typeface="Corbel"/>
                <a:ea typeface="MS PGothic"/>
              </a:rPr>
              <a:t>A summative evaluation is a logical step in this scenario as the curriculum is designed to improve the efficiency of the museum volunteers. It is therefore necessary to monitor for post-training improvements or lack thereof and to correlate these with the training program. This will serve to “close the circuit” so to speak and ensure the curriculum is achieving the goals it was designed for.</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2T01:44:40Z</dcterms:created>
  <dc:creator>Ann M Gall</dc:creator>
  <dc:description/>
  <dc:language>en-US</dc:language>
  <cp:lastModifiedBy>Ann M Gall</cp:lastModifiedBy>
  <dcterms:modified xsi:type="dcterms:W3CDTF">2011-07-09T05:33:30Z</dcterms:modified>
  <cp:revision>35</cp:revision>
  <dc:subject/>
  <dc:title>PowerPoint Presentation</dc:title>
</cp:coreProperties>
</file>